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F1D-E4F6-4C1A-97B2-39990C37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DB5-C58C-427B-9648-438F4754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F68A-72D6-45B8-8A53-D02360F0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0F4D-A648-4E73-8A05-77EEDF55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077-A46C-4282-ABB8-FDFD88D0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6F03-5F75-4134-8BAE-712CBE4D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36EF-EB13-4978-B31C-B800BEE1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81CC-CFFC-4943-9BAD-4D6F7F24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452-4858-41E1-B880-A0773FF8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DB6-EAD2-426F-9227-D2D87903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05EE-CF5F-47A7-A9C5-01B0F021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5DF-ED0B-47C6-9115-C367F877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4B74-9602-433A-8704-B506200CE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533520" y="2602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SMI</a:t>
            </a: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ILAN0, 15 SETTEMBRE 20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1042920" y="3241800"/>
            <a:ext cx="704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QUO COMPENSO 20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S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Segnaposto contenuto 12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147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S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341360"/>
          <a:ext cx="8229600" cy="4896000"/>
        </p:xfrm>
        <a:graphic>
          <a:graphicData uri="http://schemas.openxmlformats.org/drawingml/2006/table">
            <a:tbl>
              <a:tblPr/>
              <a:tblGrid>
                <a:gridCol w="1509840"/>
                <a:gridCol w="1681200"/>
                <a:gridCol w="554040"/>
                <a:gridCol w="677520"/>
                <a:gridCol w="676440"/>
                <a:gridCol w="677880"/>
                <a:gridCol w="804960"/>
                <a:gridCol w="839520"/>
                <a:gridCol w="808200"/>
              </a:tblGrid>
              <a:tr h="4348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D.M. 2025 - C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1468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4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za D.M. 2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w/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za costo prodo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3320"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R 80 min  700 m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465120"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R 90 min 800 m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463680"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R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RW 80 min 700 m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662040"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AUDIO R / R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DA 80 min 700 m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52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8040"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minazione equo compenso. Prodotti a fine vita, hardware inesist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S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1052640"/>
          <a:ext cx="8642160" cy="5329080"/>
        </p:xfrm>
        <a:graphic>
          <a:graphicData uri="http://schemas.openxmlformats.org/drawingml/2006/table">
            <a:tbl>
              <a:tblPr/>
              <a:tblGrid>
                <a:gridCol w="1776240"/>
                <a:gridCol w="1800360"/>
                <a:gridCol w="527040"/>
                <a:gridCol w="693720"/>
                <a:gridCol w="692280"/>
                <a:gridCol w="693720"/>
                <a:gridCol w="798480"/>
                <a:gridCol w="830160"/>
                <a:gridCol w="830160"/>
              </a:tblGrid>
              <a:tr h="3934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D.M. 2025 - DV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za D.M. 20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w/2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za costo prodot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04920"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+ R/R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4.7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04920"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- R/RW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4.7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04560"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Dual Lay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+R 8.5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06360"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-R 8.5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04920"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R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RAM 4.7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04920"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RAM 9.4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04560"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BLU-RAY R / R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BLU-RAY 25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06360"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BLU-RAY DL 50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17520"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BLU-RAY 100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1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06360"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minazione equo compenso. Prodotti a fine vita, hardware inesist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S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08000" y="1197000"/>
          <a:ext cx="8785080" cy="5256360"/>
        </p:xfrm>
        <a:graphic>
          <a:graphicData uri="http://schemas.openxmlformats.org/drawingml/2006/table">
            <a:tbl>
              <a:tblPr/>
              <a:tblGrid>
                <a:gridCol w="2554200"/>
                <a:gridCol w="773280"/>
                <a:gridCol w="652320"/>
                <a:gridCol w="650880"/>
                <a:gridCol w="652320"/>
                <a:gridCol w="776520"/>
                <a:gridCol w="868320"/>
                <a:gridCol w="895320"/>
                <a:gridCol w="961920"/>
              </a:tblGrid>
              <a:tr h="3268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D.M. 2025 - FLASH CAR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a g)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o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M.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za D.M. 2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w/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za costo prodo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38040"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e trasferibili o removibi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8040"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sh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8400"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9480"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8040"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8400"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53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5380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otto principalmente non usato per copia privat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5416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inuzione compenso per GB per evitare aumenti considerevoli e distorsioni di mercat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5416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sh Eur 0,03 a GB tetto massimo Eur 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S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7440" y="1268280"/>
          <a:ext cx="8747280" cy="5256360"/>
        </p:xfrm>
        <a:graphic>
          <a:graphicData uri="http://schemas.openxmlformats.org/drawingml/2006/table">
            <a:tbl>
              <a:tblPr/>
              <a:tblGrid>
                <a:gridCol w="2181240"/>
                <a:gridCol w="806400"/>
                <a:gridCol w="679680"/>
                <a:gridCol w="679320"/>
                <a:gridCol w="679320"/>
                <a:gridCol w="808200"/>
                <a:gridCol w="954000"/>
                <a:gridCol w="932040"/>
                <a:gridCol w="1027080"/>
              </a:tblGrid>
              <a:tr h="2890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D.M. 2025 - US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a h)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o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M.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za D.M. 2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w/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za costo prodo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98440">
                <a:tc row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avette USB/USB Sti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36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36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36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36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36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36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36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9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36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23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2392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otto principalmente per uso professiona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23920">
                <a:tc gridSpan="8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inuzione compenso per GB per evitare aumenti considerevoli e distorsioni di mercat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2212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sh Eur 0,05 a GB tetto massimo Eur 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S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1052640"/>
          <a:ext cx="8569080" cy="5545080"/>
        </p:xfrm>
        <a:graphic>
          <a:graphicData uri="http://schemas.openxmlformats.org/drawingml/2006/table">
            <a:tbl>
              <a:tblPr/>
              <a:tblGrid>
                <a:gridCol w="1806480"/>
                <a:gridCol w="773280"/>
                <a:gridCol w="774360"/>
                <a:gridCol w="776520"/>
                <a:gridCol w="774720"/>
                <a:gridCol w="776160"/>
                <a:gridCol w="890640"/>
                <a:gridCol w="895320"/>
                <a:gridCol w="1101600"/>
              </a:tblGrid>
              <a:tr h="32364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D.M. 2025 - H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a i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o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M.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za D.M. 2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w/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za costo prodo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33360"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 Disk Dr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3360">
                <a:tc>
                  <a:txBody>
                    <a:bodyPr lIns="15012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uding SS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50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0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3360"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3360"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3360"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3360"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3360"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50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50920">
                <a:tc gridSpan="9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otto principalmente per uso professionale. Hard Disk interni da escludere. SSD uso professionale da esclud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gridSpan="8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inuzione compenso per GB per evitare aumenti considerevoli e distorsioni di mercat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50920"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 Disk 0,005 a GB tetto massimo Eur 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S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0920" y="1197000"/>
          <a:ext cx="8642160" cy="5400720"/>
        </p:xfrm>
        <a:graphic>
          <a:graphicData uri="http://schemas.openxmlformats.org/drawingml/2006/table">
            <a:tbl>
              <a:tblPr/>
              <a:tblGrid>
                <a:gridCol w="3058920"/>
                <a:gridCol w="1065240"/>
                <a:gridCol w="587520"/>
                <a:gridCol w="587160"/>
                <a:gridCol w="836640"/>
                <a:gridCol w="835200"/>
                <a:gridCol w="857160"/>
                <a:gridCol w="814320"/>
              </a:tblGrid>
              <a:tr h="223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D.M. 202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IE PRODO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M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M. 2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za D.M. 20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w/2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za costo prodot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7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-MEMORIA IN SMARTPHONE-TABL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O 8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7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a 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O 16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7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O 32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74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O 64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7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O 128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7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O 256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7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O 512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7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O 1 T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O 2 T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7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TRE 2 T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23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33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a 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2536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otti a rapido decremento prezzo di vend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23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rtphone tetto massimo Eur 6,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S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1454040" y="2220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07:52:36Z</dcterms:created>
  <dc:creator>Pissetti, Mario</dc:creator>
  <dc:description/>
  <dc:language>en-US</dc:language>
  <cp:lastModifiedBy>Francesco Coletta</cp:lastModifiedBy>
  <cp:lastPrinted>2021-07-06T10:11:16Z</cp:lastPrinted>
  <dcterms:modified xsi:type="dcterms:W3CDTF">2025-09-16T06:30:17Z</dcterms:modified>
  <cp:revision>58</cp:revision>
  <dc:subject/>
  <dc:title>ASMI</dc:title>
</cp:coreProperties>
</file>